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99F-3B02-4BC9-BA0E-5D42A23D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B76-4FA2-4D7F-BF1E-7AA73CE3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1A2-BBF5-4042-8F90-C84E15E6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4D1-FE55-4BB7-A802-A5AAB685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BBCC-728F-4A9E-8866-13DCA151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00C8-6469-41A8-8283-EBE8A8B1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EC26-CB7F-4043-82C3-AB3E219F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C59C-38CA-46C4-A24A-BAFF306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17A4-DF7C-4B6A-9E24-D8C11BD8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6649-A9D8-4F9E-8065-9D9BEA6C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A6A5-3883-47B5-A970-1EDA1832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321-E24A-4A3F-A627-6BF4210C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12D7-820E-48EC-BED5-DC6EFBD8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ED0D-0137-4BCB-9F8F-6ABC69E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3A85-E6C7-441D-AE92-93DBB9B9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4DB8-ECB2-42A7-89DE-8207E926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F3E5-21F6-4849-AD41-0B1D6C0F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395-266D-4243-9A51-2B848058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F51-F655-4026-8305-5A53E44A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066-021B-4AFC-9747-3F978EBC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715-785C-40D8-8AB3-3CA16934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A37-43B9-4D35-9030-E57A6C79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7D0-5CAE-47ED-8F5D-8A5C9586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380-CF1F-42B3-959B-22F7124F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713D-EC93-4E31-BB3A-6AEBF729A05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4E68-D00B-45A2-B7AB-2C889C643B8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Story of Rut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arter 3; Lesson 2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1 – 2; Pages 125-12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Days of the Judg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az Shows Favor To Ruth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uth 2:10-17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598400"/>
            <a:ext cx="792504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overwhelmed by Boaz’s kind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lanation for his fav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also felt sorry for her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dowed and taking care of a wid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r from home in Moab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and living among strang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continued his fav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eat lunch with his own hired peop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ranged for her gleaning to be produc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486400" cy="6019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262640" y="3581280"/>
            <a:ext cx="1881360" cy="21337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uth Reports Back to Naomi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uth 2:18-23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840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e took the barley and some “left-over” food home to Naom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impressed by her good fortu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told her about working in the fields of Boa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was very excited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near kin to 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had a “right to redeem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worked in Boaz’ fields throughout the harvest – both barley and whe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-lim’e-lech and Na-o’mi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uth 1:1-5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598400"/>
            <a:ext cx="79246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Bethlehem of Judah fami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wo s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’lon and Chil’i-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ved to Moa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abites descendants of Lot – Gen. 19:3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imelech d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ns married Moab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hlon married Ru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lion married Or’pa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th sons d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>
            <a:off x="2133720" y="1905120"/>
            <a:ext cx="4114800" cy="35049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971800" y="4648320"/>
            <a:ext cx="3657600" cy="18288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1523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thleh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4267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Moab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05720" y="1676520"/>
            <a:ext cx="1538280" cy="21333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-o’mi Returned to Bethlehem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uth 1:6-22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772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and her two daughters-in-law began the journe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urged them to return 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e rationalized why they should retu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pah returned 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explained her reasons for going 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ffectionate  devotion 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d Ruth 1:16-1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ople of Bethlehem greet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33376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1220760"/>
            <a:ext cx="8610480" cy="5637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1337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ethlehe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943280"/>
            <a:ext cx="6324480" cy="474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733920" cy="2414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124080" y="152280"/>
            <a:ext cx="275292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hleh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394320" y="3581280"/>
            <a:ext cx="2749680" cy="327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2636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uth Gleaned in the Fields of Boaz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(Ruth 2:1-9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598400"/>
            <a:ext cx="85345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was kin to Naomi’s husband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luential man with property and weal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n of Salmon and Rahab (Matt. 1:5), 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 the linage of Christ – Obed, Jesse, Davi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and Ruth were po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noticed Ruth was a hard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rk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ggested she stay in his fiel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tected her from the 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vided her the best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3:19:35Z</dcterms:created>
  <dc:creator>Frank D Vines</dc:creator>
  <dc:description/>
  <dc:language>en-US</dc:language>
  <cp:lastModifiedBy>Frank D Vines</cp:lastModifiedBy>
  <dcterms:modified xsi:type="dcterms:W3CDTF">2005-03-24T00:09:05Z</dcterms:modified>
  <cp:revision>14</cp:revision>
  <dc:subject/>
  <dc:title>Ruth</dc:title>
</cp:coreProperties>
</file>